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278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BD8E-5E8A-4C7C-B853-C18C1C6D5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ABFB-6304-49FD-B273-E132B800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9302-E6AC-4A77-B548-24920F74F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1C08-7BE5-44C0-B713-6F12325B6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3948-6728-442F-8DA4-FFD0BE90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412E-A9BB-4010-81F9-8921C929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28E4-DE58-4443-964C-967E9BB2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3C30-63F0-4E47-986A-B36524D1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B625-B357-48F7-A6F2-1AE9C10B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4B9D-0E45-4CA2-A17C-17D2B9FC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D42D-8505-4081-9DB1-0F90378F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2B59-0F13-481D-902F-900F710E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05BB-0227-450B-BF52-D082B72280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mazonas.am.gov.br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157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666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Levantamento de Informações e Subsídios para a Elaboração de um Programa Nacional de Desenvolvimento e Capacitação de Recursos Humanos em Saneamento Ambiental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343400"/>
            <a:ext cx="9144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MARCELO DE PAULA NEVES LELIS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CIDADES/PMSS</a:t>
            </a:r>
            <a:br>
              <a:rPr sz="2000"/>
            </a:br>
            <a:br>
              <a:rPr sz="1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571500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rasília / DF, 17 de agosto de 20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6765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7270920" y="1600200"/>
          <a:ext cx="1873080" cy="53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70920" y="1600200"/>
                    <a:ext cx="18730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1422720" y="0"/>
            <a:ext cx="681480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stério das Cidades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retaria Nacional de Saneamento Ambien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grama de Modernização do Setor Saneamento - PM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logo-pmss" descr=""/>
          <p:cNvPicPr/>
          <p:nvPr/>
        </p:nvPicPr>
        <p:blipFill>
          <a:blip r:embed="rId4"/>
          <a:stretch/>
        </p:blipFill>
        <p:spPr>
          <a:xfrm>
            <a:off x="152280" y="838080"/>
            <a:ext cx="1228680" cy="552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905120"/>
            <a:ext cx="2362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1584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1584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BJETIVO GERA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evantar informações sobre o perfil da demanda e oferta existente no setor de saneamento ambiental quanto às necessidades de formação profissional e capacitação, qualificando os seguintes aspect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úblico-Al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mát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strutura Pedag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ontes de financiament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logo-pmss" descr=""/>
          <p:cNvPicPr/>
          <p:nvPr/>
        </p:nvPicPr>
        <p:blipFill>
          <a:blip r:embed="rId1"/>
          <a:stretch/>
        </p:blipFill>
        <p:spPr>
          <a:xfrm>
            <a:off x="76320" y="57240"/>
            <a:ext cx="1228680" cy="552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BJETIVOS ESPECÍFICO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0948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Fornecer subsídios ao Grupo de Trabalho – GT, criado para desenvolver uma proposta de política de capacitação para o setor saneamento ambienta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Fundamentar os termos dos Acordos de Cooperação Técnica Internaciona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Verificar a hipótese trabalhada no Estudo de Viabilidade que aborda a necessidade de se criar no Brasil um Centro de Formação Profissional em Águas, tendo como referência o Centro de Capacitação em Limoges, na França, 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Analisar a convergência ou não entre a infra-estrutura e capacidades pedagógicas instaladas no país e a demanda por formação profissional e capacitação identificada no estudo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logo-pmss" descr=""/>
          <p:cNvPicPr/>
          <p:nvPr/>
        </p:nvPicPr>
        <p:blipFill>
          <a:blip r:embed="rId1"/>
          <a:stretch/>
        </p:blipFill>
        <p:spPr>
          <a:xfrm>
            <a:off x="76320" y="57240"/>
            <a:ext cx="1228680" cy="552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NCEPÇÃO DO ESTUD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O estudo fundamenta-se nas seguintes diretriz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</a:t>
            </a:r>
            <a:r>
              <a:rPr b="0" lang="pt-BR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brangência temát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</a:t>
            </a:r>
            <a:r>
              <a:rPr b="0" lang="pt-BR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Ênfase de abordag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t-BR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lementos norteado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Fio condutor analític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a) identificar a demanda existente por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aprimoramento profissional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 e por criação de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novas competência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 para cada uma das modalidades do saneamento ambienta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b) analisar a convergência (ou não) entre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demanda e oferta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 disponível de estruturas de ensino no paí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c) indicar as possibilidades de parceria para se formar uma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rede de capacitaçã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d) utilizar as informações obtidas para identificar as disponibilidades de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contrapartida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 regionais e institucionais capazes de viabilizar centros de formação e capacitação no Brasi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logo-pmss" descr=""/>
          <p:cNvPicPr/>
          <p:nvPr/>
        </p:nvPicPr>
        <p:blipFill>
          <a:blip r:embed="rId1"/>
          <a:stretch/>
        </p:blipFill>
        <p:spPr>
          <a:xfrm>
            <a:off x="76320" y="57240"/>
            <a:ext cx="1228680" cy="552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TODOLOGI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evantamento de dados e informações sobre público-alvo, demandas temáticas e estrutura pedagógica instalad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ontes de consulta e pesquisa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)Entidades do setor que trabalham com programas de capacitação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) Rede de ensino formal na área de saneamento ambienta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entros de pesquisa que oferecem programas de capacitação e de reciclagem profissional na área de saneamento ambiental e de recursos hídricos, 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Órgãos do governo federal que desenvolvem projetos, estudos e ações relacionados com o assunto objeto do Estudo e correla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logo-pmss" descr=""/>
          <p:cNvPicPr/>
          <p:nvPr/>
        </p:nvPicPr>
        <p:blipFill>
          <a:blip r:embed="rId1"/>
          <a:stretch/>
        </p:blipFill>
        <p:spPr>
          <a:xfrm>
            <a:off x="76320" y="57240"/>
            <a:ext cx="1228680" cy="552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TODOLOGI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76201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Instrumentos de pesquisa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Questionário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Entrevista presencial (*), 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Consultas diversas a </a:t>
            </a:r>
            <a:r>
              <a:rPr b="0" i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website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, documentos, bibliotecas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logo-pmss" descr=""/>
          <p:cNvPicPr/>
          <p:nvPr/>
        </p:nvPicPr>
        <p:blipFill>
          <a:blip r:embed="rId1"/>
          <a:stretch/>
        </p:blipFill>
        <p:spPr>
          <a:xfrm>
            <a:off x="76320" y="57240"/>
            <a:ext cx="1228680" cy="552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isitas programad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(entrevista presencial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rasília–D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MCIDADES (PNCC, SNSA, PNCDA, PROCEL, PMSS); MMA; ANA/MMA; MIN; FUNASA; MCT, ASSEMAE*; AESBE; CAESB; UnB; SISTEMA “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SABESP; CETESB; USP/Faculdade de Saúde Pública; São Carlos; Franca; SANASA/Campinas; IPT; CEFET; ETESP; Fórum Nacional Lixo e Cidadania/Água e Vi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ABES; IBAM; PROSAB/FINEP; UFRJ/COPPE; CEDA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Campina Grande/UFP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GAGECE - Fortalez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EMBASA - Salva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DESA/UFMG; CETEC; COPASA; PBH; ASM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UFRGS/IPH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logo-pmss" descr=""/>
          <p:cNvPicPr/>
          <p:nvPr/>
        </p:nvPicPr>
        <p:blipFill>
          <a:blip r:embed="rId1"/>
          <a:stretch/>
        </p:blipFill>
        <p:spPr>
          <a:xfrm>
            <a:off x="76320" y="57240"/>
            <a:ext cx="1228680" cy="552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OMPANHAMENTO E SUPERVISÃO DOS TRABALHO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acompanhamento e a supervisão do desenvolvimento do Estudo será feito pelo Grupo de Trabalho – GT, de composição interministerial, criado para propor uma política nacional de desenvolvimento e capacitação de recursos humanos em saneamento ambiental. Etapas a serem cumprid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º) Aprovação do Plano de Trabalho: 11/08/20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º) Apresentação dos resultados do levantamento de campo com os dados e informações sobre Público-Alvo, Demandas Temáticas e Estrutura Pedagógica: 05/11/20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º) Apresentação do Estudo em sua versão preliminar: 23/11/20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4º) Apresentação e Entrega do Estud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(grupo ampliado):período entre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06 e 10/12/200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logo-pmss" descr=""/>
          <p:cNvPicPr/>
          <p:nvPr/>
        </p:nvPicPr>
        <p:blipFill>
          <a:blip r:embed="rId1"/>
          <a:stretch/>
        </p:blipFill>
        <p:spPr>
          <a:xfrm>
            <a:off x="76320" y="57240"/>
            <a:ext cx="1228680" cy="552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1T23:33:03Z</dcterms:created>
  <dc:creator>.</dc:creator>
  <dc:description/>
  <dc:language>en-US</dc:language>
  <cp:lastModifiedBy>IPEA</cp:lastModifiedBy>
  <dcterms:modified xsi:type="dcterms:W3CDTF">2004-09-16T21:32:45Z</dcterms:modified>
  <cp:revision>700</cp:revision>
  <dc:subject/>
  <dc:title>AVALIAÇÃO DE PERDAS EM SISTEMAS DE ABASTECIMENTO DE ÁGUA – INDICADORES DE PERDAS E METODOLOGIAS PARA ANÁLISE DE CONFIABILIDADE </dc:title>
</cp:coreProperties>
</file>